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544C-1AD5-4C33-A39F-5F1C8F3E2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811B-DC2B-4914-AF1F-FBDEB70E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18CF-AFD2-4A02-9F26-09E0BB843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759D-304A-43E4-8FF9-393B72360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F6D1-3078-4897-B310-3BF0CB0A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4001-0C89-467A-99D1-63D98E25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2B64-4566-4E98-A0D9-1536AEFF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4985-8EFB-48FB-BBBC-98E71B0B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4A97-97FC-40D1-B4DA-AB6A3A76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6718-0F8B-4D8D-AB1D-DB7C9136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EA2A-F998-4B97-B304-6EAA54DF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45E5-D604-40FC-8DD2-79C37A9B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1F9D-FEFD-4F18-9FD6-6E4183057C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523880"/>
            <a:ext cx="6870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General Formul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Fo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recision- base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R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14282"/>
          <a:stretch/>
        </p:blipFill>
        <p:spPr>
          <a:xfrm>
            <a:off x="838080" y="1066680"/>
            <a:ext cx="72392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15947"/>
          <a:stretch/>
        </p:blipFill>
        <p:spPr>
          <a:xfrm>
            <a:off x="990720" y="762120"/>
            <a:ext cx="7238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41920"/>
          <a:stretch/>
        </p:blipFill>
        <p:spPr>
          <a:xfrm>
            <a:off x="838080" y="762120"/>
            <a:ext cx="73915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44711"/>
          <a:stretch/>
        </p:blipFill>
        <p:spPr>
          <a:xfrm>
            <a:off x="838080" y="685800"/>
            <a:ext cx="7315200" cy="2895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0" t="18551" r="0" b="44374"/>
          <a:stretch/>
        </p:blipFill>
        <p:spPr>
          <a:xfrm>
            <a:off x="838080" y="3581280"/>
            <a:ext cx="7315200" cy="2210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90720" y="175248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wo stra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32767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 stra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14996"/>
          <a:stretch/>
        </p:blipFill>
        <p:spPr>
          <a:xfrm>
            <a:off x="838080" y="76212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46163"/>
          <a:stretch/>
        </p:blipFill>
        <p:spPr>
          <a:xfrm>
            <a:off x="990720" y="533520"/>
            <a:ext cx="7238880" cy="5410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0" t="18551" r="0" b="44374"/>
          <a:stretch/>
        </p:blipFill>
        <p:spPr>
          <a:xfrm>
            <a:off x="990720" y="1752480"/>
            <a:ext cx="6858000" cy="1828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3962520"/>
            <a:ext cx="914400" cy="1218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96080" y="1600200"/>
            <a:ext cx="2286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42859"/>
          <a:stretch/>
        </p:blipFill>
        <p:spPr>
          <a:xfrm>
            <a:off x="609480" y="990720"/>
            <a:ext cx="79250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20003"/>
          <a:stretch/>
        </p:blipFill>
        <p:spPr>
          <a:xfrm>
            <a:off x="1066680" y="68580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20003"/>
          <a:stretch/>
        </p:blipFill>
        <p:spPr>
          <a:xfrm>
            <a:off x="762120" y="609480"/>
            <a:ext cx="76960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19277"/>
          <a:stretch/>
        </p:blipFill>
        <p:spPr>
          <a:xfrm>
            <a:off x="685800" y="533520"/>
            <a:ext cx="75438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39079"/>
          <a:stretch/>
        </p:blipFill>
        <p:spPr>
          <a:xfrm>
            <a:off x="762120" y="380880"/>
            <a:ext cx="7467480" cy="3886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0" t="61071" r="0" b="28477"/>
          <a:stretch/>
        </p:blipFill>
        <p:spPr>
          <a:xfrm>
            <a:off x="762120" y="4267080"/>
            <a:ext cx="7467480" cy="1143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343400" y="4114800"/>
            <a:ext cx="6094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0" t="71536" r="0" b="18726"/>
          <a:stretch/>
        </p:blipFill>
        <p:spPr>
          <a:xfrm>
            <a:off x="762120" y="5334120"/>
            <a:ext cx="74674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07T16:47:54Z</dcterms:modified>
  <cp:revision>218</cp:revision>
  <dc:subject/>
  <dc:title>Slide 1</dc:title>
</cp:coreProperties>
</file>